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801600" cy="9601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EF2-B1D6-4DDE-9DC8-9FAEAB3C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A55-C35D-4AE7-83A2-5CD50704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4A4-067A-4D0D-B769-46CC64F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9E3-C38C-4B18-9AD5-7060CC91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B1E-3DF0-44A0-9039-401B3236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9FC-0D43-4922-B329-6A410BE7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0B0-8ADC-4AD1-B1E2-1122C33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092-5B92-4D31-8DC0-9EFB35DE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900-C1F3-4C9C-BD92-5F5438B9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4A6-3FA4-46D3-BD2E-81425C5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38A-D16B-458E-98E2-D0EA739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E93-C5B0-4026-AC06-9BCCCC9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A158-41C5-488A-89E0-9942A4B8B6E9}" type="slidenum"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898720" y="162000"/>
            <a:ext cx="7007400" cy="60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4880" y="1100160"/>
            <a:ext cx="5748480" cy="378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618240" y="1100160"/>
            <a:ext cx="5748480" cy="378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34880" y="5100480"/>
            <a:ext cx="5748480" cy="378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618240" y="5100480"/>
            <a:ext cx="5748480" cy="3784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2320" y="9063000"/>
            <a:ext cx="258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354400" y="2682720"/>
            <a:ext cx="231768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 (3 ma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numéro à rappeler dans l’Annexe 1 - tableau de synthè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387360" y="9018720"/>
            <a:ext cx="120175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r" pos="1253484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Opéra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ours restreint de Maîtrise d’Œuvre pour le projet d’extension et restructuration de l’EHPAD du Pré Millet à GRAULH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800" y="4398840"/>
            <a:ext cx="38340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12367800" y="4398840"/>
            <a:ext cx="38340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2367800" y="8529480"/>
            <a:ext cx="38340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1800" y="8632800"/>
            <a:ext cx="38340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22" descr=""/>
          <p:cNvPicPr/>
          <p:nvPr/>
        </p:nvPicPr>
        <p:blipFill>
          <a:blip r:embed="rId2"/>
          <a:stretch/>
        </p:blipFill>
        <p:spPr>
          <a:xfrm>
            <a:off x="10603080" y="96840"/>
            <a:ext cx="1763640" cy="66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8561520" y="2682720"/>
            <a:ext cx="231768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 (3 ma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numéro à rappeler dans l’Annexe 1 - tableau de synthè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8561520" y="6327720"/>
            <a:ext cx="231768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 (3 ma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numéro à rappeler dans l’Annexe 1 - tableau de synthè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354400" y="6327720"/>
            <a:ext cx="231768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 (3 ma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numéro à rappeler dans l’Annexe 1 - tableau de synthè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17" descr="Hôpitaux et EHPAD Tarn-Nord | Ch Albi"/>
          <p:cNvPicPr/>
          <p:nvPr/>
        </p:nvPicPr>
        <p:blipFill>
          <a:blip r:embed="rId3"/>
          <a:stretch/>
        </p:blipFill>
        <p:spPr>
          <a:xfrm>
            <a:off x="1601640" y="123840"/>
            <a:ext cx="709920" cy="843120"/>
          </a:xfrm>
          <a:prstGeom prst="rect">
            <a:avLst/>
          </a:prstGeom>
          <a:ln w="0">
            <a:noFill/>
          </a:ln>
        </p:spPr>
      </p:pic>
      <p:pic>
        <p:nvPicPr>
          <p:cNvPr id="58" name="Image 18" descr="Une image contenant logo, Police, clipart, dessin humoristique&#10;&#10;Le contenu généré par l’IA peut être incorrect."/>
          <p:cNvPicPr/>
          <p:nvPr/>
        </p:nvPicPr>
        <p:blipFill>
          <a:blip r:embed="rId4"/>
          <a:stretch/>
        </p:blipFill>
        <p:spPr>
          <a:xfrm>
            <a:off x="414360" y="136440"/>
            <a:ext cx="1092240" cy="655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2"/>
          <p:cNvSpPr/>
          <p:nvPr/>
        </p:nvSpPr>
        <p:spPr>
          <a:xfrm>
            <a:off x="2871720" y="263520"/>
            <a:ext cx="705816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DE L’EQUIPE (= Nom Mandataire – à complé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7:21:32Z</dcterms:created>
  <dc:creator>vv</dc:creator>
  <dc:description/>
  <dc:language>en-US</dc:language>
  <cp:lastModifiedBy>Véronique CENTIS</cp:lastModifiedBy>
  <dcterms:modified xsi:type="dcterms:W3CDTF">2025-11-04T15:47:17Z</dcterms:modified>
  <cp:revision>44</cp:revision>
  <dc:subject/>
  <dc:title>Diapositive 1</dc:title>
</cp:coreProperties>
</file>